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C8F-0B31-49B2-B981-17AFF5F7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2C0-5191-454D-B072-20967743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018-BCBD-4340-9278-877E0208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79B-E9CA-43B2-9843-8E737227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38C-C722-46CE-9254-A768638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06F-2BE1-4850-9AF7-CF3EFD45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A53-0399-43DE-BA9F-A3BA521F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219-7C2F-471B-909A-8BBD8303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DF7-5D20-4F3F-B705-1A431FBF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56B-58D4-45F2-9ADE-040F2C1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87F-6F72-4D55-88EA-0ABAEF4F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629-F79D-4FB5-9047-F10E7D3C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B6F-9E7F-4C64-8F58-2511CE62D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4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457200"/>
            <a:ext cx="2438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أبشّركم بفرحٍ عظيم وُلِدَ لنا مُخَلِّصٌ وهوَ المسيح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455898PWTKEWSFrh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380880"/>
            <a:ext cx="160020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شعبُ الّسالكُ في الظُّلمة أبصَرَ نوراً عظيم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4984762EpprHVgXkZ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762120"/>
            <a:ext cx="38862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عُميُ يُبصر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موتى يقوم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أسرى يُطلق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والمساكين يُبَشرون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25:15Z</dcterms:created>
  <dc:creator>SUZANNE.MD</dc:creator>
  <dc:description/>
  <dc:language>en-US</dc:language>
  <cp:lastModifiedBy>USER</cp:lastModifiedBy>
  <dcterms:modified xsi:type="dcterms:W3CDTF">2002-12-19T11:11:06Z</dcterms:modified>
  <cp:revision>3</cp:revision>
  <dc:subject/>
  <dc:title>PowerPoint Presentation</dc:title>
</cp:coreProperties>
</file>